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5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move the slide</a:t>
            </a:r>
            <a:endParaRPr b="0" lang="en-US" sz="4000" spc="-1" strike="noStrike">
              <a:solidFill>
                <a:srgbClr val="ffffff"/>
              </a:solidFill>
              <a:latin typeface="Corbel"/>
            </a:endParaRPr>
          </a:p>
        </p:txBody>
      </p:sp>
      <p:sp>
        <p:nvSpPr>
          <p:cNvPr id="5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1B938-D12D-47D6-8F71-3C8D97C733A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Our program evaluation will consist of both formative and summative evaluation processes. This is felt to be the most comprehensive approach possible and the one that will generate the best product. Design reviews will be implemented at each developmental stage to ensure key instructional requirements are being met before moving on. There will also be an expert review session including museum directors, one seasoned volunteer, and the identified trainers in order to ensure that all can agree on the form and shape of the curriculum and feel that it is useful for generating their desired learning outcomes. This will facilitate both the identification and revision of any weaknesses in the instructional material allowing necessary revisions to be made resulting in an effective training program that is focused perfectly on the desired learning outcomes.</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CD951-10ED-42FF-AADA-E9C76C364BE8}"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A summative evaluation of the training program will measure the effects of training in the actual environment where it will be employed. This will serve to verify whether or not the desired learning goals have been achieved and how they are impacting the business of the museum. The main methods of measuring indicators of success will include feedback from museum customers via customer satisfaction surveys and monitoring for a reduction or increase in customer complaints. From the in house side of things feedback will be attained from museum employees and volunteers via periodic post-training checklist surveys by museum directors or experienced staff coupled with on-the-job observation. Records of post-training patron donations will also be monitored along with the Excel database to check for a reduction or increase in user error. We suggest that a period of six months be allowed to pass before conducting this survey to allow for proper development of what questions should be asked and what specific areas of performance monitored.</a:t>
            </a: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B2C2-104B-4395-AB04-EEAAD0E5F652}" type="slidenum">
              <a:rPr b="0" lang="ja-JP" sz="1200" spc="-1" strike="noStrike">
                <a:solidFill>
                  <a:srgbClr val="ffffff"/>
                </a:solidFill>
                <a:latin typeface="Calibri"/>
                <a:ea typeface="MS PGothic"/>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70504-EE29-4BC9-9479-08C3711CC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2008E-2BB4-4A66-A9AA-81C039FD3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1"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2"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83D4156E-378A-40EC-940C-E611B82164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F514AE79-D222-42C3-9E70-F600B3306F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4DCA815-6127-400C-81EF-79C52FD987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7"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8"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F04F880-6775-499F-B837-3D3746C982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2"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5693074-02F6-42A1-A659-C6C87454EF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6"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9F1B980-A7B9-40F3-A99B-F1360FF813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8"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9"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4FB7ACF-3563-423B-A869-4029B22D0B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71"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2"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3"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4"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CEA75163-4689-4E2A-9CBA-0E0E293056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76"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7"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8"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9"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0"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1"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1275ACD7-A0A0-4D88-AE28-28E1B9E4C6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CB7F7020-4C10-461E-BADB-F02DA3D4FE1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42A5D-FF95-4538-B456-13647F89D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03A3E14-FE99-45AC-94DB-AEEDC9B019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262C83A1-C951-4AA7-9818-6F234D6B21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68E42232-B0D6-4439-B606-831F8588D3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347EB4A8-4C7E-41C4-8CF9-B83E02E9D9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367C378A-86BB-435A-A6F4-079A13A518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22D0CCC-AE64-4D04-A7C5-BC26113BEE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B9CD33D-B869-4371-868C-9779DD811A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785385D-6C16-4A0A-B153-5225F05D67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1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8898B27-E8BA-49E8-A69C-2500AA8AA9C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46DE6085-7A2A-4D86-BBB3-09D40C7F83B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9C98A-9B3B-4A74-A96E-72B106536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2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1C254D91-A7E4-434E-8D8B-5DF5FD59055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2F689AF-E9C7-4693-B9FD-4F57F31D75E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3"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AB0DC3-7F72-4203-8196-2F45AF0C78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5"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750D66-B2AC-46E6-81B5-9874AC179E0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7"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38"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9C69789-6F60-499A-AB5A-C40421F97B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BCFF9B-B9BA-44E9-A307-50287A877B7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E806BA-4244-4F83-BB5E-112146C7E9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4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43"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44"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8A1F3D-99C2-4FE4-BD87-50EACF54AF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46"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4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48"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56888C-BE3E-4A75-ACEE-9F0F97DFBD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5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52"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7A8FAA-A8CB-4283-987B-6612C4055B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4A7400E-B409-4F7B-A2C0-1CCCEF68EF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4"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55"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642722-2272-4A1E-B186-9F9675B641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7"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58"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59"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0"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452D22C-BB9C-469A-9BD1-AA2C50208FC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62"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3"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4"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5"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6"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7"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39BD078-71C1-442F-816E-B29A3168FF4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BCBD259-7207-4D9B-80AD-14185AA3A37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5"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B08F6A-5D5A-4F99-9405-37C3720F04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7"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C41B862-6156-4B67-BAC8-94D9119A89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80"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54F9C39-7465-4CE0-A130-D5791A60FCA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FB2ADA-20F3-4DD5-A650-2A16369361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A81CA32-D8A9-414D-BBC5-049548D9E0A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8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85"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86"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555547-8D91-4FA1-B115-1F139E3435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E475EEB-1A3F-49CF-9002-8924FA271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88"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8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90"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DF4EC9-169F-4DD1-AE70-C5A1B6DCBA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9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94"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AE6FD1-0A8D-4CE0-9210-0FC1893084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6"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97"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5DCD018-A1CF-42E0-855B-DA9D3791E7F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9"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1"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2"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15947A8-AB07-44FD-BA85-F621D41932E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04"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5"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6"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7"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8"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9"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5D2FC8C-4A32-478C-AAFE-DD52CFD77D0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1"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02E447C-BF1D-4151-814B-3D9A3B758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3"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4"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0177820-6925-4D29-B151-3438E622E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A66F11E-59B4-41B6-A7DE-1F9FE7C46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680748-4B8B-490E-B873-E78BAA4B1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9"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0"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B892619-7E80-4E67-A4AB-83A35D39A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392DD-26FD-40C9-A2EF-931B56C9D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2"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4"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A456C5-1510-4512-B1A2-C8A575A34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8"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C4C6EAD-103B-4557-9699-FB46D45A8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0"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1"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C0F8EC1-26EA-4A6C-99B2-DEB7FE209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5"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8584F3B-3501-4D37-BE7B-EB738BDFF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8"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9"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0"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2F1B6B8-0C02-4D0D-9B87-11AEA32E6F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3C495D3-EA6F-489E-B41F-75386076C0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5AAF1BA-E64B-4C70-975F-00F4E5CB63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29C10B7-535E-4F8B-ABEC-A82475C04A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333C1FE-E2EE-4C8E-8FE2-600C489F9C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8E9CD99-CE08-4370-A807-66FF561723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8"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DA677-7C98-46E7-B7BA-7852C4245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13DF4CB-F907-4CB6-ABA8-50F7276AF7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9BD9DE4-EFCD-43FB-B7A9-918BDD870D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8B4F33F-003D-410B-979E-15323AEED5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B29C44E-534D-4B31-8F5A-1040F1E49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1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7082C30-C247-411C-8C92-9F0B5C1E3A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352BE01-ED3C-482D-BDC6-488E5EF018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2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687F5CB-E280-4B88-9557-A102CCB368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C15C743-11FA-4DFE-9902-066D442663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5"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B347CF3-8A63-4502-9220-760317F415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7"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7FF5752-C057-42A9-94DF-0721D986FB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049AD-FDC4-4AC3-9966-184A2FAD5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E180268-2D1E-4EF8-BD20-48ABCBA603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F82E04E-5AE7-42BA-9E71-EA6DD1A937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94C4D00-B284-44AD-85E3-8BC8705D6B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4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D0EC6D2-739C-4E3E-937F-F82BBEDE9B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48"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629F3FD-9D12-4EDB-B9F0-3F3E36B1A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6B05F90-C019-4D55-90B2-06489D0A6D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6"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218DB15-40F9-4AF6-9301-2729C90752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9"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1AA32E6-2A8A-4988-B5EE-B449EACE46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64"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21B51BB-DEDB-44C7-BB50-AB464D8895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CAB25D8-C0FF-4BDA-B9E6-B318A23631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1EF03-DDE1-4DE8-9FA4-3FA720450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77"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6709E5D-518B-41C7-B4C2-152C349C12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79"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7AECD62-42AC-4942-8666-4391A2A92C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81"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2"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2296691-0471-4587-B7A4-47199DE30B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2687BDC-3FBB-4556-9FD1-909BEE418C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CE7FD05-7890-46D5-A8FD-B185015B87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8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7"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8"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F1D00E3-5CBE-451D-A8CB-88303E70B6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2"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34E46C6-114C-4892-96F1-81B37EC78A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6"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F57DBB4-02D5-4A08-93A2-F84DD8AD70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8"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FA440C6-853A-45CE-B97C-114000441C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01"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3"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4"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5FEB681-F34A-44B7-BB93-8D4EE71210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7108C-7AF3-4658-ACC4-3CF775654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06"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8"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9"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4968099-DF9A-4560-B785-D20DC34860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4174ECD-8F0A-491F-B8B3-5D48A0DDAE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19"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45723AD-E41C-4847-91D1-A163F0A344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1"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166AFA5-04F2-4824-9B95-EC006F742C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3"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4"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FD1611C-C707-4ACB-86F9-D1B572C268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FF4D7AC-24C6-4705-B886-707C39A724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B364A42-E48F-43E2-9B6F-CB3EE408B7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9"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3BC8455-03BD-47C3-BB7D-25F13A7902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2"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4"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F6854C4-4308-43A4-ACD0-BDF8CCE0E7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8"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D570415-331B-48D8-910C-8B52B4239C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757D4-29A9-488F-9719-8A06E94CE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0"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1"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4C6E003-8BC0-4595-9809-330632D9D5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5"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6"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47798C5-B887-49DC-AAD8-F87A7B4C25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8"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9"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3"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1C3B9FD-02C7-4ADA-A777-C6FCF76685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DB2BD13-2EEE-4A7E-AD53-E979BC30AC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0634ED0-8524-427E-A759-8818116493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6FC6970-12C6-445C-B913-9E68FB5C7A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144DF19-C462-4D1F-B496-DDC0B390FA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6030286-23AB-42EF-B710-641C638E27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1DF7AFA-CC5D-4E53-B6E7-D52FE8154B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6C25CEA-4ECD-420B-9928-0257B871E1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305F4-8514-4F20-B3DF-F53A3E412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84B2BAF-EEA4-4DD8-BF1D-2832F10C56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63C2896-25EF-459B-92CD-5498BAB87E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8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3D04E73-D13D-4C73-AFE9-BA1ED37AA5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8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A0AD652-DA37-4E92-A073-C679BADBD0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9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0E0D71D-BEC8-436F-934B-F67C539BBC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6C0BB216-E4BB-4B51-9E17-CDEF2C1394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3"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4E2EDEDD-5D94-458E-9FB0-0FC49AA637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5"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71201A2-5DF6-4451-AC79-5ED3D65D94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7"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8"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FB17EC16-55DD-4B0D-B4B9-DB9A957BC3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404FE02-A779-4C06-BFA9-2216514760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283C7-E8A3-4ED7-AEF5-6BD35B8CD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AE51F16-7A6B-4390-9243-56CF52FF68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1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13"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14"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5213FA7-330B-4082-A8ED-3D0FA77189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16"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1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18"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6E48E2E-3A99-4397-88F4-A23E87A4BB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2"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6F87901-0E20-49DA-AEBD-1FB8A8512E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4"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5"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D55C1DD-949A-46FD-8E93-B219BE217C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7"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8"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9"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0"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1C01F26A-7C46-4039-8224-0F8084C88F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32"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3"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4"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5"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6"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7"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33FA8076-7849-4A67-90E2-B63FD4FC1D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91C7D650-55D0-4279-B74B-F7371FBE60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47"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1E6393B-28E1-47A3-989E-FE61BD6588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49"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CBCEC573-E49D-44BC-B23E-8C4C11EEBC5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 name="PlaceHolder 3"/>
          <p:cNvSpPr>
            <a:spLocks noGrp="1"/>
          </p:cNvSpPr>
          <p:nvPr>
            <p:ph type="dt" idx="1"/>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5"/>
          <p:cNvSpPr>
            <a:spLocks noGrp="1"/>
          </p:cNvSpPr>
          <p:nvPr>
            <p:ph type="sldNum" idx="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8824-4682-4A03-AC11-12311D8C848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3" name="Rectangle 7"/>
          <p:cNvSpPr/>
          <p:nvPr/>
        </p:nvSpPr>
        <p:spPr>
          <a:xfrm>
            <a:off x="0" y="5734080"/>
            <a:ext cx="9144000" cy="112392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4" name="Straight Connector 8"/>
          <p:cNvSpPr/>
          <p:nvPr/>
        </p:nvSpPr>
        <p:spPr>
          <a:xfrm>
            <a:off x="0" y="5695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3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38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387" name="PlaceHolder 3"/>
          <p:cNvSpPr>
            <a:spLocks noGrp="1"/>
          </p:cNvSpPr>
          <p:nvPr>
            <p:ph type="dt" idx="28"/>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88" name="PlaceHolder 4"/>
          <p:cNvSpPr>
            <a:spLocks noGrp="1"/>
          </p:cNvSpPr>
          <p:nvPr>
            <p:ph type="sldNum" idx="29"/>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8AB7-92DC-46E6-BCAE-66AC6A8D1F5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89" name="PlaceHolder 5"/>
          <p:cNvSpPr>
            <a:spLocks noGrp="1"/>
          </p:cNvSpPr>
          <p:nvPr>
            <p:ph type="ftr" idx="30"/>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28"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29" name="PlaceHolder 3"/>
          <p:cNvSpPr>
            <a:spLocks noGrp="1"/>
          </p:cNvSpPr>
          <p:nvPr>
            <p:ph type="dt" idx="31"/>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30" name="PlaceHolder 4"/>
          <p:cNvSpPr>
            <a:spLocks noGrp="1"/>
          </p:cNvSpPr>
          <p:nvPr>
            <p:ph type="ftr" idx="3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31" name="PlaceHolder 5"/>
          <p:cNvSpPr>
            <a:spLocks noGrp="1"/>
          </p:cNvSpPr>
          <p:nvPr>
            <p:ph type="sldNum" idx="3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70B91-3A6B-4E4D-8B08-155862EA89A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8"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70"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1" name="PlaceHolder 3"/>
          <p:cNvSpPr>
            <a:spLocks noGrp="1"/>
          </p:cNvSpPr>
          <p:nvPr>
            <p:ph type="dt" idx="34"/>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72" name="PlaceHolder 4"/>
          <p:cNvSpPr>
            <a:spLocks noGrp="1"/>
          </p:cNvSpPr>
          <p:nvPr>
            <p:ph type="ftr" idx="35"/>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73" name="PlaceHolder 5"/>
          <p:cNvSpPr>
            <a:spLocks noGrp="1"/>
          </p:cNvSpPr>
          <p:nvPr>
            <p:ph type="sldNum" idx="36"/>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7ABD-81AE-4F2F-AE1D-BD882F99967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0" y="4743360"/>
            <a:ext cx="9144000" cy="211464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 name="Straight Connector 7"/>
          <p:cNvSpPr/>
          <p:nvPr/>
        </p:nvSpPr>
        <p:spPr>
          <a:xfrm>
            <a:off x="0" y="4714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4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4"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5" name="PlaceHolder 3"/>
          <p:cNvSpPr>
            <a:spLocks noGrp="1"/>
          </p:cNvSpPr>
          <p:nvPr>
            <p:ph type="dt" idx="4"/>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sldNum" idx="5"/>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71582-3068-4C31-902E-4C82A7D636D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ftr" idx="6"/>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8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87" name="PlaceHolder 3"/>
          <p:cNvSpPr>
            <a:spLocks noGrp="1"/>
          </p:cNvSpPr>
          <p:nvPr>
            <p:ph type="dt" idx="7"/>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sldNum" idx="8"/>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A1AE6-4981-47F9-96DF-C5854929AB3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89" name="PlaceHolder 5"/>
          <p:cNvSpPr>
            <a:spLocks noGrp="1"/>
          </p:cNvSpPr>
          <p:nvPr>
            <p:ph type="ftr" idx="9"/>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7"/>
          <p:cNvSpPr/>
          <p:nvPr/>
        </p:nvSpPr>
        <p:spPr>
          <a:xfrm>
            <a:off x="0" y="0"/>
            <a:ext cx="9144000" cy="182880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Straight Connector 8"/>
          <p:cNvSpPr/>
          <p:nvPr/>
        </p:nvSpPr>
        <p:spPr>
          <a:xfrm>
            <a:off x="-4680" y="182880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12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30"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32" name="PlaceHolder 4"/>
          <p:cNvSpPr>
            <a:spLocks noGrp="1"/>
          </p:cNvSpPr>
          <p:nvPr>
            <p:ph type="sldNum" idx="11"/>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FEA6A-722A-4634-9B8D-A20DF0A0C67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33" name="PlaceHolder 5"/>
          <p:cNvSpPr>
            <a:spLocks noGrp="1"/>
          </p:cNvSpPr>
          <p:nvPr>
            <p:ph type="ftr" idx="1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72"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3" name="PlaceHolder 3"/>
          <p:cNvSpPr>
            <a:spLocks noGrp="1"/>
          </p:cNvSpPr>
          <p:nvPr>
            <p:ph type="dt" idx="13"/>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4" name="PlaceHolder 4"/>
          <p:cNvSpPr>
            <a:spLocks noGrp="1"/>
          </p:cNvSpPr>
          <p:nvPr>
            <p:ph type="sldNum" idx="14"/>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10C9-F4A2-4D15-BED3-99CBB97E997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ftr" idx="15"/>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2"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14"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15" name="PlaceHolder 3"/>
          <p:cNvSpPr>
            <a:spLocks noGrp="1"/>
          </p:cNvSpPr>
          <p:nvPr>
            <p:ph type="dt" idx="16"/>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16" name="PlaceHolder 4"/>
          <p:cNvSpPr>
            <a:spLocks noGrp="1"/>
          </p:cNvSpPr>
          <p:nvPr>
            <p:ph type="sldNum" idx="17"/>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5EB5-60EE-4B78-8F0C-EDC0BF6D8A8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217" name="PlaceHolder 5"/>
          <p:cNvSpPr>
            <a:spLocks noGrp="1"/>
          </p:cNvSpPr>
          <p:nvPr>
            <p:ph type="ftr" idx="18"/>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5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57" name="PlaceHolder 3"/>
          <p:cNvSpPr>
            <a:spLocks noGrp="1"/>
          </p:cNvSpPr>
          <p:nvPr>
            <p:ph type="dt" idx="19"/>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58" name="PlaceHolder 4"/>
          <p:cNvSpPr>
            <a:spLocks noGrp="1"/>
          </p:cNvSpPr>
          <p:nvPr>
            <p:ph type="sldNum" idx="20"/>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21E9-E4C8-4D17-A66E-C3FE82256F0C}"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259" name="PlaceHolder 5"/>
          <p:cNvSpPr>
            <a:spLocks noGrp="1"/>
          </p:cNvSpPr>
          <p:nvPr>
            <p:ph type="ftr" idx="21"/>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98"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99" name="PlaceHolder 3"/>
          <p:cNvSpPr>
            <a:spLocks noGrp="1"/>
          </p:cNvSpPr>
          <p:nvPr>
            <p:ph type="dt" idx="22"/>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00" name="PlaceHolder 4"/>
          <p:cNvSpPr>
            <a:spLocks noGrp="1"/>
          </p:cNvSpPr>
          <p:nvPr>
            <p:ph type="sldNum" idx="2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AE50-D22D-4C67-8E53-FA51A63C152C}"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01" name="PlaceHolder 5"/>
          <p:cNvSpPr>
            <a:spLocks noGrp="1"/>
          </p:cNvSpPr>
          <p:nvPr>
            <p:ph type="ftr" idx="24"/>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9" name="Rectangle 7"/>
          <p:cNvSpPr/>
          <p:nvPr/>
        </p:nvSpPr>
        <p:spPr>
          <a:xfrm>
            <a:off x="0" y="5734080"/>
            <a:ext cx="9144000" cy="112392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40" name="Straight Connector 8"/>
          <p:cNvSpPr/>
          <p:nvPr/>
        </p:nvSpPr>
        <p:spPr>
          <a:xfrm>
            <a:off x="0" y="5695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3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342"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343" name="PlaceHolder 3"/>
          <p:cNvSpPr>
            <a:spLocks noGrp="1"/>
          </p:cNvSpPr>
          <p:nvPr>
            <p:ph type="dt" idx="25"/>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44" name="PlaceHolder 4"/>
          <p:cNvSpPr>
            <a:spLocks noGrp="1"/>
          </p:cNvSpPr>
          <p:nvPr>
            <p:ph type="sldNum" idx="26"/>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BA694-0225-4F92-8128-E8833368157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45" name="PlaceHolder 5"/>
          <p:cNvSpPr>
            <a:spLocks noGrp="1"/>
          </p:cNvSpPr>
          <p:nvPr>
            <p:ph type="ftr" idx="27"/>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Box 1"/>
          <p:cNvSpPr/>
          <p:nvPr/>
        </p:nvSpPr>
        <p:spPr>
          <a:xfrm>
            <a:off x="-262440" y="111240"/>
            <a:ext cx="473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rbel"/>
                <a:ea typeface="MS PGothic"/>
              </a:rPr>
              <a:t>Program Evaluation</a:t>
            </a:r>
            <a:endParaRPr b="0" lang="en-US" sz="3600" spc="-1" strike="noStrike">
              <a:solidFill>
                <a:srgbClr val="ffffff"/>
              </a:solidFill>
              <a:latin typeface="Corbel"/>
            </a:endParaRPr>
          </a:p>
        </p:txBody>
      </p:sp>
      <p:pic>
        <p:nvPicPr>
          <p:cNvPr id="518" name="Picture 2" descr="C:\Users\Owner\AppData\Local\Microsoft\Windows\Temporary Internet Files\Content.IE5\BK0RA2J1\MC900432675[1].png">
            <a:hlinkClick r:id="rId1" action="ppaction://hlinksldjump"/>
          </p:cNvPr>
          <p:cNvPicPr/>
          <p:nvPr/>
        </p:nvPicPr>
        <p:blipFill>
          <a:blip r:embed="rId2"/>
          <a:stretch/>
        </p:blipFill>
        <p:spPr>
          <a:xfrm>
            <a:off x="8377200" y="6149880"/>
            <a:ext cx="762120" cy="762120"/>
          </a:xfrm>
          <a:prstGeom prst="rect">
            <a:avLst/>
          </a:prstGeom>
          <a:ln w="0">
            <a:noFill/>
          </a:ln>
        </p:spPr>
      </p:pic>
      <p:sp>
        <p:nvSpPr>
          <p:cNvPr id="519" name="TextBox 3"/>
          <p:cNvSpPr/>
          <p:nvPr/>
        </p:nvSpPr>
        <p:spPr>
          <a:xfrm>
            <a:off x="380880" y="1028880"/>
            <a:ext cx="8377200" cy="5031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1b24cf"/>
                </a:solidFill>
                <a:latin typeface="Corbel"/>
                <a:ea typeface="MS PGothic"/>
              </a:rPr>
              <a:t>	</a:t>
            </a:r>
            <a:r>
              <a:rPr b="1" lang="en-US" sz="1800" spc="-1" strike="noStrike">
                <a:solidFill>
                  <a:srgbClr val="1b24cf"/>
                </a:solidFill>
                <a:latin typeface="Corbel"/>
                <a:ea typeface="MS PGothic"/>
              </a:rPr>
              <a:t>Our evaluation plan includes both formative and summative evaluation processes.</a:t>
            </a:r>
            <a:endParaRPr b="0" lang="en-US" sz="1800" spc="-1" strike="noStrike">
              <a:solidFill>
                <a:srgbClr val="ffffff"/>
              </a:solidFill>
              <a:latin typeface="Corbe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24cf"/>
                </a:solidFill>
                <a:latin typeface="Corbel"/>
                <a:ea typeface="MS PGothic"/>
              </a:rPr>
              <a:t>Formative Evaluation</a:t>
            </a:r>
            <a:endParaRPr b="0" lang="en-US" sz="1800" spc="-1" strike="noStrike">
              <a:solidFill>
                <a:srgbClr val="ffffff"/>
              </a:solidFill>
              <a:latin typeface="Corbel"/>
            </a:endParaRPr>
          </a:p>
          <a:p>
            <a:pPr lvl="1" marL="800280" indent="-343080">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ea typeface="MS PGothic"/>
              </a:rPr>
              <a:t>Our formative evaluation approach will include design reviews at each developmental stage to ensure key instructional requirements are being met. </a:t>
            </a:r>
            <a:endParaRPr b="0" lang="en-US" sz="1800" spc="-1" strike="noStrike">
              <a:solidFill>
                <a:srgbClr val="ffffff"/>
              </a:solidFill>
              <a:latin typeface="Corbel"/>
            </a:endParaRPr>
          </a:p>
          <a:p>
            <a:pPr lvl="1" marL="800280" indent="-343080">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ea typeface="MS PGothic"/>
              </a:rPr>
              <a:t>In addition, an expert review evaluation session will be conducted with museum directors, one seasoned volunteer, and the identified trainers who will review the instructional materials </a:t>
            </a:r>
            <a:endParaRPr b="0" lang="en-US" sz="1800" spc="-1" strike="noStrike">
              <a:solidFill>
                <a:srgbClr val="ffffff"/>
              </a:solidFill>
              <a:latin typeface="Corbel"/>
            </a:endParaRPr>
          </a:p>
          <a:p>
            <a:pPr lvl="1" marL="800280" indent="-343080">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ea typeface="MS PGothic"/>
              </a:rPr>
              <a:t>This will facilitate the identification of any weaknesses in the proposed instruction and allow revisions to be made which will ensure a well-organized, effective training program and maximize the achievement of expected learning outcomes.</a:t>
            </a:r>
            <a:br>
              <a:rPr sz="1800"/>
            </a:br>
            <a:r>
              <a:rPr b="1" lang="en-US" sz="1800" spc="-1" strike="noStrike">
                <a:solidFill>
                  <a:srgbClr val="1b24cf"/>
                </a:solidFill>
                <a:latin typeface="Corbel"/>
                <a:ea typeface="MS PGothic"/>
              </a:rPr>
              <a:t>Rationale</a:t>
            </a:r>
            <a:br>
              <a:rPr sz="1800"/>
            </a:br>
            <a:r>
              <a:rPr b="0" lang="en-US" sz="1800" spc="-1" strike="noStrike">
                <a:solidFill>
                  <a:srgbClr val="1b24cf"/>
                </a:solidFill>
                <a:latin typeface="Corbel"/>
                <a:ea typeface="MS PGothic"/>
              </a:rPr>
              <a:t>.</a:t>
            </a:r>
            <a:br>
              <a:rPr sz="1800"/>
            </a:br>
            <a:r>
              <a:rPr b="0" lang="en-US" sz="1800" spc="-1" strike="noStrike">
                <a:solidFill>
                  <a:srgbClr val="1b24cf"/>
                </a:solidFill>
                <a:latin typeface="Corbel"/>
                <a:ea typeface="MS PGothic"/>
              </a:rPr>
              <a:t>Formative evaluation is simply good designing. By taking steps along the way we will ensure that the end product is the best it can be before being employed in the instructional environment.</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Box 1"/>
          <p:cNvSpPr/>
          <p:nvPr/>
        </p:nvSpPr>
        <p:spPr>
          <a:xfrm>
            <a:off x="-65160" y="111240"/>
            <a:ext cx="3970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ticulate Extrabold"/>
                <a:ea typeface="MS PGothic"/>
              </a:rPr>
              <a:t>Program Evaluation</a:t>
            </a:r>
            <a:endParaRPr b="0" lang="en-US" sz="3200" spc="-1" strike="noStrike">
              <a:solidFill>
                <a:srgbClr val="ffffff"/>
              </a:solidFill>
              <a:latin typeface="Corbel"/>
            </a:endParaRPr>
          </a:p>
        </p:txBody>
      </p:sp>
      <p:pic>
        <p:nvPicPr>
          <p:cNvPr id="521" name="Picture 2" descr="C:\Users\Owner\AppData\Local\Microsoft\Windows\Temporary Internet Files\Content.IE5\BK0RA2J1\MC900432675[1].png">
            <a:hlinkClick r:id="rId1" action="ppaction://hlinksldjump"/>
          </p:cNvPr>
          <p:cNvPicPr/>
          <p:nvPr/>
        </p:nvPicPr>
        <p:blipFill>
          <a:blip r:embed="rId2"/>
          <a:stretch/>
        </p:blipFill>
        <p:spPr>
          <a:xfrm>
            <a:off x="8377200" y="6149880"/>
            <a:ext cx="762120" cy="762120"/>
          </a:xfrm>
          <a:prstGeom prst="rect">
            <a:avLst/>
          </a:prstGeom>
          <a:ln w="0">
            <a:noFill/>
          </a:ln>
        </p:spPr>
      </p:pic>
      <p:sp>
        <p:nvSpPr>
          <p:cNvPr id="522" name="TextBox 3"/>
          <p:cNvSpPr/>
          <p:nvPr/>
        </p:nvSpPr>
        <p:spPr>
          <a:xfrm>
            <a:off x="380880" y="1044720"/>
            <a:ext cx="837720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24cf"/>
                </a:solidFill>
                <a:latin typeface="Corbel"/>
                <a:ea typeface="MS PGothic"/>
              </a:rPr>
              <a:t>Summative Evaluation</a:t>
            </a:r>
            <a:endParaRPr b="0" lang="en-US" sz="1800" spc="-1" strike="noStrike">
              <a:solidFill>
                <a:srgbClr val="ffffff"/>
              </a:solidFill>
              <a:latin typeface="Corbel"/>
            </a:endParaRPr>
          </a:p>
          <a:p>
            <a:pPr marL="343080" indent="-343080">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ea typeface="MS PGothic"/>
              </a:rPr>
              <a:t>Our summative evaluation approach proposes that indicators of success be measured through feedback received from museum customers, employees, and trainees. </a:t>
            </a:r>
            <a:endParaRPr b="0" lang="en-US" sz="1800" spc="-1" strike="noStrike">
              <a:solidFill>
                <a:srgbClr val="ffffff"/>
              </a:solidFill>
              <a:latin typeface="Corbel"/>
            </a:endParaRPr>
          </a:p>
          <a:p>
            <a:pPr marL="343080" indent="-343080">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ea typeface="MS PGothic"/>
              </a:rPr>
              <a:t>This information will be gained via customer satisfaction surveys with an established standard target of 90% satisfaction, monitoring of customer complaints (or a reduction of them), and the periodic use of a post training checklist to be used by museum directors or experienced staff in observing volunteers at work. We also propose records of patron funds be monitored for post-training increase or reduction and that the Excel database also be monitored for an increase or reduction of user error.</a:t>
            </a:r>
            <a:endParaRPr b="0" lang="en-US" sz="1800" spc="-1" strike="noStrike">
              <a:solidFill>
                <a:srgbClr val="ffffff"/>
              </a:solidFill>
              <a:latin typeface="Corbe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en-US" sz="1800" spc="-1" strike="noStrike">
                <a:solidFill>
                  <a:srgbClr val="1b24cf"/>
                </a:solidFill>
                <a:latin typeface="Corbel"/>
                <a:ea typeface="MS PGothic"/>
              </a:rPr>
              <a:t>Rationale</a:t>
            </a:r>
            <a:br>
              <a:rPr sz="1800"/>
            </a:br>
            <a:r>
              <a:rPr b="0" lang="en-US" sz="1800" spc="-1" strike="noStrike">
                <a:solidFill>
                  <a:srgbClr val="1b24cf"/>
                </a:solidFill>
                <a:latin typeface="Corbel"/>
                <a:ea typeface="MS PGothic"/>
              </a:rPr>
              <a:t>A summative evaluation is a logical step in this scenario as the curriculum is designed to improve the efficiency of the museum volunteers. It is therefore necessary to monitor for post-training improvements or lack thereof and to correlate these with the training program. This will serve to “close the circuit” so to speak and ensure the curriculum is achieving the goals it was designed for.</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2T01:44:40Z</dcterms:created>
  <dc:creator>Ann M Gall</dc:creator>
  <dc:description/>
  <dc:language>en-US</dc:language>
  <cp:lastModifiedBy>Ann M Gall</cp:lastModifiedBy>
  <dcterms:modified xsi:type="dcterms:W3CDTF">2011-07-09T05:33:30Z</dcterms:modified>
  <cp:revision>35</cp:revision>
  <dc:subject/>
  <dc:title>PowerPoint Presentation</dc:title>
</cp:coreProperties>
</file>